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gif" ContentType="image/gif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R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EF6-F116-4232-A326-68C3627D438D}" type="slidenum">
              <a:rPr b="0" lang="sr-R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BE40-89CF-4FB2-B258-220EEA021D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3890-15BF-4F2D-8BE8-529209FF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464A2-7584-4C57-A1D5-61553719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D71D-A857-433F-A69C-F108C0F8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F6E24-272D-451E-9283-C96AFE74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8AA0-C8C8-4426-BF30-832D8217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CB56-89EF-4DEF-A2E4-322488DD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4505-FCA5-4756-8C07-89A5ADA3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6D62-92A5-446E-874B-EF6EA4F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1786-2ECD-4855-91D0-FAB1D00A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3080-7EC7-427C-9A85-671F9ED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4DC-D733-42FB-ACE8-A3F585B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9CA8-C617-4C56-81B7-A63DAB49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53B6-4A01-43A1-9FFE-94A6DBC8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8292-F937-4613-91EE-B08AA9B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261E-E1CB-4AEC-B597-8A0BC258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43D-701D-4262-B7A0-2523EE8C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9964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91320" y="177804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796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9964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91320" y="4404960"/>
            <a:ext cx="294408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5ED2-98E1-4AB2-9837-E16E0739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F42F-102D-4F10-A5F1-E07E9090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B531-12DD-4279-B4E9-DCDED4E9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05FA-2093-4027-85E9-A004F3E3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44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166CD-78BA-4DD3-AD3E-983069D6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D0EB3-4308-4DAB-A19A-610E29A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93720" y="440496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857E-C605-4694-92DB-F6F883A2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3720" y="1778040"/>
            <a:ext cx="44622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7960" y="4404960"/>
            <a:ext cx="9144000" cy="239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57561-B468-4132-8FA1-8B94D69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960" y="694692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8172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706E-1586-4928-99C7-499E7FD85A0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3" name="Group 5"/>
            <p:cNvGrpSpPr/>
            <p:nvPr/>
          </p:nvGrpSpPr>
          <p:grpSpPr>
            <a:xfrm>
              <a:off x="3047760" y="3933000"/>
              <a:ext cx="7102800" cy="3676680"/>
              <a:chOff x="3047760" y="3933000"/>
              <a:chExt cx="7102800" cy="367668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47760" y="4662720"/>
                <a:ext cx="508248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353000" y="4710240"/>
                <a:ext cx="221904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113800" y="5902560"/>
                <a:ext cx="502236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45960" y="3933000"/>
                <a:ext cx="530460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936200" y="4091760"/>
                <a:ext cx="219996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71840" y="6941880"/>
            <a:ext cx="3216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156320" cy="7609680"/>
            <a:chOff x="0" y="0"/>
            <a:chExt cx="10156320" cy="7609680"/>
          </a:xfrm>
        </p:grpSpPr>
        <p:grpSp>
          <p:nvGrpSpPr>
            <p:cNvPr id="51" name="Group 3"/>
            <p:cNvGrpSpPr/>
            <p:nvPr/>
          </p:nvGrpSpPr>
          <p:grpSpPr>
            <a:xfrm>
              <a:off x="3047760" y="3933000"/>
              <a:ext cx="7106400" cy="3676680"/>
              <a:chOff x="3047760" y="3933000"/>
              <a:chExt cx="7106400" cy="367668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47760" y="4662720"/>
                <a:ext cx="5085000" cy="294696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355160" y="4710240"/>
                <a:ext cx="2220120" cy="143028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114880" y="5902560"/>
                <a:ext cx="5024880" cy="170712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46680" y="3933000"/>
                <a:ext cx="5307480" cy="3676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938720" y="4091760"/>
                <a:ext cx="2201040" cy="94500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59720" y="2364840"/>
              <a:ext cx="3219120" cy="270900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156320" cy="313236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25480" indent="-31752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270080" indent="-254160">
              <a:spcBef>
                <a:spcPts val="9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778040" indent="-25416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4" marL="2286000" indent="-2541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5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6" marL="2286000" indent="-254160">
              <a:spcBef>
                <a:spcPts val="9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30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71840" y="6946920"/>
            <a:ext cx="3216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81720" y="6950160"/>
            <a:ext cx="2370240" cy="528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47F2-BD40-49A5-A087-E44C4F1E946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16668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951200" y="488520"/>
            <a:ext cx="820872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ФАКУЛТЕТ МЕДИЦИНСКИ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Х НАУК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УНИВЕРЗИТЕТА У КРАГУЈЕВЦ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ИАСФ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93760" y="369720"/>
            <a:ext cx="1071360" cy="1722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2205720" y="2666880"/>
            <a:ext cx="58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49400" y="-1608120"/>
            <a:ext cx="49147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08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 апсорпцију глукозе у цревима утиче опште стање организм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фекције, интоксикације, неухрањен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статак витамина (тиамина,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антотенске кис., и пиридоксин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ања са повећаним мотилитетом цр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дијаре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Судбина апсорбованих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 него што доспеју у системску циркулацију апсорбовани моносахариди путем порталног крвотока пролазе кроз јетр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проласка кроз јетру угљени хидрати улазе у системску циркулацију којом доспевају до екстрахепатичних ткива, где се корис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Механизми хепатоцита који смањују концентрацију угљених хидрата у крви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вођење фруктозе и галактозе у 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грађивање глукозе у гликоген (гликогене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ксидација глукозе уз ослобађање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шћење глукозе за синтезу  масних киселина и неких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Механизми који доводе до ослобађања глукозе из јетре у крв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668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варање глукозе из других хекс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лобађање глукозе из гликогена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гликогенолиз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глукозе из других једињења (глуконеогене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тицај хормона на метаболизам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668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егулација метаболизма угљених хидрата и одржање сталне концентрације глукозе  постиже се координираним дејством неколико хормон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смањује концентрацију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Антагонисти инсулин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глукагон, кортизол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адреналин и хормон раст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 повећавају 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ајважниј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1760" y="1738440"/>
            <a:ext cx="101602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лакшан транспорт глукозе кроз ћел.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на гликоген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катаболизм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хибиција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складиштења триацилглицерола у масном ткив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хибиција кет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ација синтезе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778040"/>
            <a:ext cx="100090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дифундује у ћелије јетре и без присуств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активира глукокиназу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поспешује транспорт глукозе у ћел. скелет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ишића, срчаног мишића и масног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ма утицаја на мождане ћелије, које с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пустљиве за глукозу и без 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ритроцити су инсулин независне ћел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040" y="1809720"/>
            <a:ext cx="97948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злике у дејству инсулина на улазак глукозе у ћелије различитих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следица су различитих типов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них система који постоје у њихов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ембрана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о сада је доказано постојање пет различити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ранспортер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LUT1-GLUT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Дејство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07600" y="17780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Повећање садржаја гликогена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↑ активност гликоген синт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Убрзава глико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- ↑ активност фосфофрукто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Инхибира глуконеогене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Arial"/>
              </a:rPr>
              <a:t>- ↓ активност и количину ензима овог проц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84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 – механизам дејств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1666800"/>
            <a:ext cx="108666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трамер (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 2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) субјединиц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убјединица се протеже кроз мембра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унутрашњост ћелије и у свом интрацелуларн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лу садржи домен који  има активност тирозин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н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 инсулина з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субјединицу активира рецепторску тирозин киназу која доводи до аутофосфорилације и синтезе других гласн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72960" indent="-3729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960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Утицај хормона на метаболиза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угљених хидра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Мелитур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Нетолеранција лакт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Slide2"/>
          <p:cNvPicPr/>
          <p:nvPr/>
        </p:nvPicPr>
        <p:blipFill>
          <a:blip r:embed="rId1"/>
          <a:stretch/>
        </p:blipFill>
        <p:spPr>
          <a:xfrm>
            <a:off x="650880" y="833400"/>
            <a:ext cx="9048600" cy="6786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450880" y="166680"/>
            <a:ext cx="50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ски  рецептор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22-12"/>
          <p:cNvPicPr/>
          <p:nvPr/>
        </p:nvPicPr>
        <p:blipFill>
          <a:blip r:embed="rId1"/>
          <a:stretch/>
        </p:blipFill>
        <p:spPr>
          <a:xfrm>
            <a:off x="4614840" y="3979800"/>
            <a:ext cx="5545080" cy="3470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88240" y="254160"/>
            <a:ext cx="21970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4160" y="592200"/>
            <a:ext cx="1015992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Везивањем инсулина за 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  <a:ea typeface="Arial"/>
              </a:rPr>
              <a:t>тирозин киназне рецепторе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 → аутофосфорилације-активације рецепто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Активна 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К каскадом сигналне трансдукције 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орилише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нтрацелуларне протеине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ФОСФАТА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и  акти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ира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ензим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гликолизе, гликогенезе, липогенезе</a:t>
            </a:r>
            <a:r>
              <a:rPr b="0" lang="sr-Latn-CS" sz="26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т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ранспорт 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г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лукозе из крви у јетру, мишиће и масно ткиво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338040" y="3809880"/>
            <a:ext cx="2617920" cy="3487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2540160" y="4184640"/>
            <a:ext cx="1608120" cy="831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mesta vezivanja insulin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2624040" y="5925960"/>
            <a:ext cx="1609920" cy="131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aramond"/>
              </a:rPr>
              <a:t>Unutrašnji delovi receptora- </a:t>
            </a:r>
            <a:r>
              <a:rPr b="1" lang="sr-Latn-CS" sz="1600" spc="-1" strike="noStrike">
                <a:solidFill>
                  <a:srgbClr val="000000"/>
                </a:solidFill>
                <a:latin typeface="Garamond"/>
              </a:rPr>
              <a:t>enzim tirozin kinaz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Инсулин – регулација секрец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176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важнији фактор који контролише лучење инсулина је сама концентрација глукозе у крв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ентрација глукозе стимулише луч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↓ концентрација глукозе инхибира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екрецију овог хорм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нтагонисти инсулина - 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9526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за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– ћелијама Лангерхансових острвац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остварује снажан ефекат 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↑ конц.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стимулација гликогенолизе и глуконеогене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јизраженији ефекат је убрзање гликогенолиз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66680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тивира аденилат цикла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доводи до стварања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AMP-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активира гликоге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фосфорилаз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брзава разградњу гликоге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се ослобађа и из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хепатоцита дифундује у крвоток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5794200" y="237960"/>
            <a:ext cx="4365720" cy="738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укаго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36680" y="15238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↓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глукозе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ише секрецију глукаг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аго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оводи до мобилизације глукозе из јетре 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итећи организам од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. глукозе инхибира лучење глукаг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мино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пешују секрецију глукагона чиме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пречава појава хипогликемије посл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еинског обр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ортизол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07600" y="11667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у 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авни ефекат кортизола је стимулација 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дстиче синтезу кључних енз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неогене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брзава мобилизацију протеина из мишић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њихову деградацију до А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имулише ослобађање МК из масног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хибира индукцију гликолитичких ензима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м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 сржи надбубрежне жлез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новна улога у метаболизму УХ састоји се у обезбеђивању глукозе за потрошњу у периферним 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во дејство адренелин показ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 условима изражене хипогликем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физичког или емоционалног стр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дреналин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64680" y="1523880"/>
            <a:ext cx="9286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реналин стимулише гликогенолизу у јетри и 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глукозе (из гликогена јетре) и лакт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из мишића)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дренали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хибира глуконеогенезу и секреци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а појачава секрецију глукаго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јство остварује посредством cAMP као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 секундарног гласника 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Хормон раста (соматотропни хормон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пептидни хормон предњег режња хипоф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имулише глуконеогене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зава липоли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нтагониста инсулину у погледу уласка глукозе у ћелије инсулин-зависних тк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9600" y="23796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Arial"/>
                <a:ea typeface="Arial"/>
              </a:rPr>
              <a:t>Угљени хидра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6320" y="1595520"/>
            <a:ext cx="93582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авни извор ЕНЕРГИЈЕ у организм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а се ослобађа оксидацијом ових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до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исте се за синтезу биомолекула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то су масне кисели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ставни су део биолошки значајних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дињења (нукл. киселин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carbohydratesExamples"/>
          <p:cNvPicPr/>
          <p:nvPr/>
        </p:nvPicPr>
        <p:blipFill>
          <a:blip r:embed="rId1"/>
          <a:stretch/>
        </p:blipFill>
        <p:spPr>
          <a:xfrm>
            <a:off x="6794640" y="166680"/>
            <a:ext cx="308916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96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линички синдром праћен стањем хронично високих концентрација глукозе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ергликемија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је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основни знак ов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диц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апсолутног или релативног </a:t>
            </a:r>
            <a:r>
              <a:rPr b="1" lang="sr-Latn-CS" sz="3200" spc="-1" strike="noStrike">
                <a:solidFill>
                  <a:srgbClr val="00ff00"/>
                </a:solidFill>
                <a:latin typeface="Arial"/>
                <a:ea typeface="Arial"/>
              </a:rPr>
              <a:t>дефицит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7" name="Content Placeholder 3" descr="scooping[1]"/>
          <p:cNvPicPr/>
          <p:nvPr/>
        </p:nvPicPr>
        <p:blipFill>
          <a:blip r:embed="rId1"/>
          <a:stretch/>
        </p:blipFill>
        <p:spPr>
          <a:xfrm>
            <a:off x="793800" y="2666880"/>
            <a:ext cx="3786120" cy="2828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insulin_resistance[1]"/>
          <p:cNvPicPr/>
          <p:nvPr/>
        </p:nvPicPr>
        <p:blipFill>
          <a:blip r:embed="rId2"/>
          <a:stretch/>
        </p:blipFill>
        <p:spPr>
          <a:xfrm>
            <a:off x="4865760" y="2595600"/>
            <a:ext cx="4071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960" y="19526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О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 (WHO)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нише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ао обољење на основу лабораторијских нала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 већи од 7,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након периода ноћног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концентрација глукоз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већа од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11,1 mmol/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сата након узимања оброка богат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Х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након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960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7600" y="109548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4000"/>
          </a:bodyPr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ви знаци који указују на почетак шећерне болести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убитак у теж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ишићна слабос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жеђ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мокраћ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анализом биохемијских парамет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концентрације у крви и ↑ екскреци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↑ осмоларност, жеђ и ↑унос течности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кскреције урина, дехидратације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9680" indent="-319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убитак електроли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ласификациј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M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и других поремећаја толеранције глукоз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е кла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 (инсулин-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II (инсулин-независни D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трицијски D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руги типови DM повезани са неки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тањима и синдром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ремећај толеранциј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21760" y="20955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дица  недовољног лучења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10% свих пацијен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олелих од дијабете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 основи деструкција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ћел. Лангерхансов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трваца панкреа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3" descr="resource[1]"/>
          <p:cNvPicPr/>
          <p:nvPr/>
        </p:nvPicPr>
        <p:blipFill>
          <a:blip r:embed="rId1"/>
          <a:stretch/>
        </p:blipFill>
        <p:spPr>
          <a:xfrm>
            <a:off x="5365800" y="237960"/>
            <a:ext cx="36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07600" y="23814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Тип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(инсулин независни 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i="1" lang="sr-Latn-R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релативни недостатак активности инсу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дносно резистенција на инсул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ан код 80-90% дијабетич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лечи се оралним хипогликемицима/и/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нсул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3" descr="eating-insulin-pumps[1]"/>
          <p:cNvPicPr/>
          <p:nvPr/>
        </p:nvPicPr>
        <p:blipFill>
          <a:blip r:embed="rId1"/>
          <a:stretch/>
        </p:blipFill>
        <p:spPr>
          <a:xfrm>
            <a:off x="5437080" y="309600"/>
            <a:ext cx="3714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504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4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7600" y="18097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50280" indent="-350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*гликемија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- налаз значајне хипергликемиј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постпрандијална (након оброка) </a:t>
            </a:r>
            <a:r>
              <a:rPr b="0" lang="sr-Latn-CS" sz="2800" spc="-1" strike="noStrike">
                <a:solidFill>
                  <a:srgbClr val="ffff00"/>
                </a:solidFill>
                <a:latin typeface="Arial"/>
                <a:ea typeface="Arial"/>
              </a:rPr>
              <a:t>глукоза у крв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- хипергликемија преко 11,1 mmol/L два сата 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дуже након обро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емија након оптерећења глукоз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-  преко 11,1 mmol/L два сата и дуже након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оралног уношења 75g глукозе (глукоз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толеранс тестови)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јутарњи ниво глукоз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– гликемија преко 7,8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0280" indent="-35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  <a:ea typeface="Arial"/>
              </a:rPr>
              <a:t>mmol/l, након периода ноћног гладовањ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66680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а у урину (гликозуриј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нормалним околностима глукоза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е детектуј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аксимална конц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глукозе у крви која није праћена појавом глукозе у мокраћи 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убрежни праг за глукозу, који износи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лико је гликемија изнад ових вредности бубрези су преоптерећени и глукоза се појављује у урин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</a:t>
            </a:r>
            <a:r>
              <a:rPr b="1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хемоглобин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166760"/>
            <a:ext cx="10437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6000"/>
          </a:bodyPr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сутни су у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ритроцитим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, где настају и п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ормалним условима, спонтано, неензимск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валентним везивање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и глукоз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HbA</a:t>
            </a:r>
            <a:r>
              <a:rPr b="0" lang="sr-Latn-R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c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њихова к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нцентрација зависи од просеч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е глукозе 2-3 месеца пре мере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важн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праћењу и контролисању шећер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редности гликохемоглобина се изражавају ка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роценат укуп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b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– нормално од 5-8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21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1760" y="2095560"/>
            <a:ext cx="1050948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лисахариди (скроб и гликоген) и дисахариди (сахароза и лактоза) унети хран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хидролизују се у процесу варења д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оносахарид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под дејством ензи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пљувачке (амила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панкреасног сока (амилаза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-  слузокоже танког црева (дисахаридаз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 - Кетонска те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76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недостатку инсули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мањено је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искоришћавање глукоз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ће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нтраћелијски недостатак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(иако је у крви има преви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зе у ћелијама доводи д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достатка оксалацетата неопходног 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тпочињање Кребсовог циклус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8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 - Кетонска те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јачан је катаболизам масти тј масних ки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гомилавањ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cetil-CoA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не улазе 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ЦА циклус због недостатка оксалаце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 нагомиланог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acetil-CoA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јачано се синтетишу кетонска тела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значајан ↑ њихове  концентрациј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је ацетонемија или кетон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 такође се појављују у урину - ацетонур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ли кетонур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960" y="6667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Клиничко лабораторијски налази у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br>
              <a:rPr sz="3600"/>
            </a:b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abetes mellitus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у - Кетонска тел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3760" y="223848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етонска тела се нормално не налазе у ур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ацетонемија и ацетонур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у лабораторијски знаци поодмакл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шећерне боле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Екстремно </a:t>
            </a: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 кетонских тела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же бити праћено поремећајем ацидо-баз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внотеже - 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метаболичка  кетоацид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Метаболичке последице недостатка дејства инсулин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778040"/>
            <a:ext cx="101599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ремећај метаболизма угљених хидрат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речавање уласка глукозе у инсулин- завис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ћел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ктивација глуконеогенезе и гликогеноли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 неконтролисаном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abetes mellitus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ивна липолиза ТГЛ-а у масном ткив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тварање велике количине кетонских те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убрзан катаболизам проте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стови оптерећења дају слику о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таболизму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способности организма да контролише кон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стова оптерећења после конзумир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ати се промена концентрације глукозе у крви у одређеним временским интервал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21760" y="17384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 код здравих и код дијабетичара конц. глукозе брзо расте по конзумирању (30-60ми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здравих се брзо враћа на првобитн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ед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д дијабетичара веома споро јер се 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нтетише довољно инсулина па је време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враћања на нормално стање продуже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0840" y="177804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Орални глукоза-толеранс тест (ОГТТ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води се ујутру након 10-16 сати гладовањ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а време теста пацијент би требало 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рује и не пуш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узима се узорак крви за одређивање глук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таш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даје се 75г глукозе у 250-30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в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рв се узима сваких 30 мин у току 2 сат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уноше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7840" indent="-357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Код здравих особ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а глукозе мања од 6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ре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а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а глукозе мања од 7,8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да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Diabetes mellit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а глукозе већа од 11,0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h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давања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Орални тест оптерећења глукозо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1760" y="209556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глукозе у плаз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између 7,8 и 11,0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у узорку узет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ле 2 сата указују на поремећај толеранциј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новорођенчади  и дец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нцентрације глукозе ниже од 1,6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донесене новорођенча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дносно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  <a:ea typeface="Arial"/>
              </a:rPr>
              <a:t>&lt;1,11 mmol/L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превремено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ођене  деце сматрају патолошки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0" y="-61920"/>
            <a:ext cx="10159920" cy="76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3400" y="5238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6680" y="23097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Пролаз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ниска тел.маса на рођењ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превремено рођена дец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RS" sz="3600" spc="-1" strike="noStrike">
                <a:solidFill>
                  <a:srgbClr val="ffffff"/>
                </a:solidFill>
                <a:latin typeface="Arial"/>
                <a:ea typeface="Arial"/>
              </a:rPr>
              <a:t>Diabetes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или токсемија код мај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600" spc="-1" strike="noStrike">
                <a:solidFill>
                  <a:srgbClr val="ffffff"/>
                </a:solidFill>
                <a:latin typeface="Arial"/>
                <a:ea typeface="Arial"/>
              </a:rPr>
              <a:t>- Респираторни “дистрес” синдром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Узроци хипогликемије код новорођенчади</a:t>
            </a:r>
            <a:br>
              <a:rPr sz="3600"/>
            </a:b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Трајна хипоглик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дефект у стварању глук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гликоген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галактозем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наследна неподношљивост фруктоз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- ендогени хиперинсулиниза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3400" y="304560"/>
            <a:ext cx="10287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е код новорођенчади</a:t>
            </a:r>
            <a:br>
              <a:rPr sz="4000"/>
            </a:br>
            <a:r>
              <a:rPr b="0" lang="sr-RS" sz="4000" spc="-1" strike="noStrike">
                <a:solidFill>
                  <a:srgbClr val="ffff00"/>
                </a:solidFill>
                <a:latin typeface="Arial"/>
                <a:ea typeface="Arial"/>
              </a:rPr>
              <a:t> и дец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деце чији је мозак у развоју, поновљене и пролонгиране епизоде хипогликемије могу довести до трајног оштећења можданог паренхи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адекватна количина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ATPa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неопходног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за одржавање јонских градијената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укоза је важан прекурсор у синтез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а у саставу миј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960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Хипогликемија код одрасли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3668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стање при коме је концентрација глукозе испод доње граничне вредности за гликемију у стању гладовања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(3.6mmol/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кива која за своје енергетске потребе облигатно зависе од глукозе су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оза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еритроци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естис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дула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едула над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760" indent="-338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Симпто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65040" y="1380960"/>
            <a:ext cx="950112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76000"/>
          </a:bodyPr>
          <a:p>
            <a:pPr marL="289440" indent="-289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Разликују се од особе до особе и ниједан није специфичан за само ста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cc"/>
                </a:solidFill>
                <a:latin typeface="Arial"/>
                <a:ea typeface="Arial"/>
              </a:rPr>
              <a:t>Адреналин је одговоран за класичне симптоме хипогликемиј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рхт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зној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мучн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тахикард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вртоглавиц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гла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елагодност у стомак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cc"/>
                </a:solidFill>
                <a:latin typeface="Arial"/>
                <a:ea typeface="Arial"/>
              </a:rPr>
              <a:t>Ови симптоми срећу се и у хипертиреози, феохромоцитом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2400" spc="-1" strike="noStrike">
                <a:solidFill>
                  <a:srgbClr val="ffffcc"/>
                </a:solidFill>
                <a:latin typeface="Arial"/>
                <a:ea typeface="Arial"/>
              </a:rPr>
              <a:t>и код анксиоз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9440" indent="-289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Могући узроци смањене концентрације глукозе у крви могу бити: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уготрајно гладовањ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тешка дисфункција јетр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редозирање инсулином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лекови, алкохол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инсулином - тумор ендокриног панкреас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лучи велику количину инсулина у крв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н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анкреасни тумори који појачано трош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4525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Могући узроци смањене концентрације глукозе у крви могу бити</a:t>
            </a:r>
            <a:r>
              <a:rPr b="0" lang="sr-Latn-CS" sz="54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796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 метаболички поремећаји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озе, галактоземије, наследн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еподношљивост фруктозе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глукокортикоида  (хипофунк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коре надбубрежне жлезд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1760" y="30960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Патофизиолошки механиз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2120" y="1738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Смањено ослобађање глукозе у крв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тешких обољења јет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роничног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алкохолиз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наследних мета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болести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бољења жлезда са унутраш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лучењем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(недовољно лучење глукокортикоида 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тране коре надбубрежне жлезде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Патофизиолошки механизми хипогликемиј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Појачано коришћење глукоз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случајевима великих тумора које трош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велике количине 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смањених депо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липид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поремећене оксидације масних кисели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Смањено отпуштање и појачано коришћењ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0" lang="sr-Latn-C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случају појачаног лучења инсулина усле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53880" indent="-353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тумора панкреаса – инсулино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Arial"/>
                <a:ea typeface="Arial"/>
              </a:rPr>
              <a:t>Лабораторијско испитивање хипогликемије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гликемије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инсули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одређивање концентрациј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а у кр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Ц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-пептид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део инактивног облика инсулина  заједно са инсулином излучује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с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у крв у једнаким количина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 значајан је показатељ концентрације овог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  <a:ea typeface="Arial"/>
              </a:rPr>
              <a:t>хормона у крв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1760" y="159552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6000"/>
          </a:bodyPr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c000"/>
                </a:solidFill>
                <a:latin typeface="Arial"/>
                <a:ea typeface="Arial"/>
              </a:rPr>
              <a:t>Саливарна и панкреасна амилаза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дролизуј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1-4 гликозидне везе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кроба и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и чему настају :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алтоза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изомалто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аливарна амилаза се инактивира у желуцу 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иселој среди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дролитичка разградња се наставља дејством панкреасне амил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→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начни производ смеша глукозе, малтозе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омалто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7240" indent="-3272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7600" y="166680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рупа урођених поремећа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долази до прекомерног нагомилавањ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а у ткивима : јетри, бубрезима, срц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мишић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 може има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нормалну или патолошку структур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Arial"/>
                <a:ea typeface="Arial"/>
              </a:rPr>
              <a:t>Настају због поремећаја активности ензима који учествују у синтези или у разградњи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6920" indent="-3769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7600" y="304560"/>
            <a:ext cx="93582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: Von Gierke-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7960" y="1778040"/>
            <a:ext cx="9429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глукозо-6-фосфат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гомилавање гликогена у јетри и бубрез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резерве гликогена метаболички инертн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липид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Ацетон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ерур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нцентрација холестерола - ксанто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I: Pompe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лизозомалне киселе малта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1.4- глукозидаз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агомилавање гликогена у свим ткив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Срце је веома увећан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Изражена слабост миши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960" y="59508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II: Korije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br>
              <a:rPr sz="3600"/>
            </a:b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- гранична декстрино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1760" y="216684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ензима разграњавањ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"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хидролизуј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-1,6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идне везе тј. ме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чвања у молекулу гликог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 патолошке структу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и има кратке ланце акумулира се у јет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мишић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болелих – стална хипогл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523800"/>
            <a:ext cx="950112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IV: Andersenova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36680" y="20955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фици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“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ензима гранањ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оји катализује стварање рачви тј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i="1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1.6.-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гликозидних вез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гомилава се производ са мало рачви и дугачким спољним ланцима –амилопект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јвише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епатомегалија, цироз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Фаталан исход до 4. године живо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5238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V: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Mc Ardle-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3668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еактивност </a:t>
            </a:r>
            <a:r>
              <a:rPr b="0" i="1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ишићне фосфорил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икоген у мишићима не користи се као извор глукозе за добијање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рзо замарање и грчеви у мишићим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осле физичког напо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олови престају у мировању, када мишићи користе масти као извор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Гликогенозе – тип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VI: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sr-Latn-RS" sz="3600" spc="-1" strike="noStrike">
                <a:solidFill>
                  <a:srgbClr val="ffff00"/>
                </a:solidFill>
                <a:latin typeface="Arial"/>
                <a:ea typeface="Arial"/>
              </a:rPr>
              <a:t>Hers-ova </a:t>
            </a: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болест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Недостатак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јетрине фосфорил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Повећан садржај гликогена у јет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Нетолеранција лакто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1760" y="173844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особа са урођеним недостатком активности лактазе после узимања млека јављају с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болови, надувеност абдомен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дијареј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малнуриција првих дана по рођењ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тежег облика: лактоза се излучује урин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оштећење јетре и бубрег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повећана екскреција аминокисели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7960" y="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Нетолеранција лактозе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1166760"/>
            <a:ext cx="1057284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 неподношења лактозе могу се јави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тек у пубертету или касни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стоји и стечени поремећај недостатка лактазе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следица обољења ГИТ-а (запаљ., инфекциј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оследица осмотског ефекта нехидролизован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лакт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делом ферментације под дејством цревни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бактерија при чему се ствара млечна киселин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асне кис. кратког ланца које иритирају црев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8000"/>
          </a:bodyPr>
          <a:p>
            <a:pPr marL="335160" indent="-3351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ушкарац старости 58 година јавља се лекару због наглог губитка телесне тежине, осећаја опште слабости и малаксалости који траје данима уназад , брзог замарања као и интензивног осећаја  жеђ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Раније је патио од гојазности, повремено конзумира алкохол, пушач је 30 година уназад, и има седентарни начин живо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160" indent="-33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бјективним прегледом лекар је установио да је пацијент видно дехидриран и да има исушену кож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1760" y="180972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лобођена глукоза се апсорбуј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настали хидролизом полисахарида (малтоза 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зомалтоза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као и они унети храном (сахароза и лакт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дролизују до моносахарида дејством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исахаридаза (гликозидаза)*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* локализовани у ћел. слузокоже цр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76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65040" y="21668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а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11,2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36 mmol/L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(137-14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5,8 mmol/L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(3.5-5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осмоларност 385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mOsm/L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(285-29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+ глукоза у урину на основу урин тест трак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320" y="309600"/>
            <a:ext cx="94294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1- 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7960" y="1595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На коју болест најпре посумњамо код лабораторијског налаза хипергликемије и гликозур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 Који облик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-a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је присутан код нашег пацијента 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3. Које би још лабораторијске параметре могли да затражимо у циљу прецизнијег постављања дијагнозе и увођења терапиј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4. Како се изводи ОГТТ и како тумачимо добијене резулта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65400" indent="-36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5. Како се лечи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diabetes mellitus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4400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7960" y="17780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Девојка старости 21</a:t>
            </a: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одину доводе код лекара због изненадне дрхтавице,лупања срца, презнојавања, мучнине, вртоглавиц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и осећаја нелагодности у стомаку. Због бављења манекенством дуже време је на ригорозном дијететском режиму исхране, са смањеним  уносом угљених хидрата, а такође је приликом изласка у град попила и неколико алкохолних пић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1200" indent="-331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sr-RS" sz="36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93400" y="595080"/>
            <a:ext cx="9651960" cy="126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- Лабораторијски налаз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7960" y="2023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глукоза </a:t>
            </a:r>
            <a:r>
              <a:rPr b="1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2.9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(3.8-6.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уреа           3.6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(3.0-8.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креатинин  71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mmol/L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(49-10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               69U/L                                (0-17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CKMB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 9.0U/L                               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2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SH             2.07uIU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/mL                       (0.38-5.3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FT</a:t>
            </a:r>
            <a:r>
              <a:rPr b="0" lang="sr-Latn-RS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                      </a:t>
            </a:r>
            <a:r>
              <a:rPr b="0" lang="sr-Latn-RS" sz="2800" spc="-1" strike="noStrike">
                <a:solidFill>
                  <a:srgbClr val="ffffff"/>
                </a:solidFill>
                <a:latin typeface="Arial"/>
                <a:ea typeface="Arial"/>
              </a:rPr>
              <a:t>10.74pmol/L                      (7.46-21.1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93400" y="237960"/>
            <a:ext cx="965196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Приказ случаја 2 </a:t>
            </a:r>
            <a:r>
              <a:rPr b="0" i="1" lang="sr-Latn-RS" sz="3600" spc="-1" strike="noStrike">
                <a:solidFill>
                  <a:srgbClr val="00ff00"/>
                </a:solidFill>
                <a:latin typeface="Arial"/>
                <a:ea typeface="Arial"/>
              </a:rPr>
              <a:t>-</a:t>
            </a:r>
            <a:r>
              <a:rPr b="0" i="1" lang="sr-RS" sz="3600" spc="-1" strike="noStrike">
                <a:solidFill>
                  <a:srgbClr val="00ff00"/>
                </a:solidFill>
                <a:latin typeface="Arial"/>
                <a:ea typeface="Arial"/>
              </a:rPr>
              <a:t>Одговорити на питањ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36680" y="138096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5000"/>
          </a:bodyPr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ји су могући узроци хипогликемије код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шег пацијенткињ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2. Који су остали узроци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3. Код којих болести се такође срећу ов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симптом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4. Који лабораторијски параметри с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најчешће одређују у пракси у испитивању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5. Који су могући патофизиолошк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3640" indent="-323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еханизми настанка хипогликемиј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Варење и 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778040"/>
            <a:ext cx="993780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Код човека постоји најмање седам дисахаридаз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 пет глукозидазе и две галактозидаз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лукозидазе хидролизују малтозу, сахарозу, изомалтозу и трехал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Галактозидазе хидролизују  лактоз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Под дејством ових ензима дисахариди се у плазма мембрани хидролизују до моносахарида: глукозе, фруктозе и галактоз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880" y="30960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600" spc="-1" strike="noStrike">
                <a:solidFill>
                  <a:srgbClr val="ffff00"/>
                </a:solidFill>
                <a:latin typeface="Arial"/>
                <a:ea typeface="Arial"/>
              </a:rPr>
              <a:t>Апсорпција угљених хидра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3400" y="1881360"/>
            <a:ext cx="9651960" cy="5029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Моносахариди се апсорбују различитим механизмим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активним транспортом (глукоза и галакт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олакшаном дифузијом (фрукт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  <a:ea typeface="Arial"/>
              </a:rPr>
              <a:t>- простом дифузијом (маноза, пентоз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dica</cp:lastModifiedBy>
  <dcterms:modified xsi:type="dcterms:W3CDTF">2018-09-04T15:40:47Z</dcterms:modified>
  <cp:revision>152</cp:revision>
  <dc:subject/>
  <dc:title>PowerPoint Presentation</dc:title>
</cp:coreProperties>
</file>